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509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5348C-3586-4C6B-AEA9-F64DED44AF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57220-4B9B-4188-9238-2B04D64A14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0C3F1-C32C-4210-90E1-8DD7194D271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2662E-7DEF-4432-A37C-B74BF6D381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5716A-AFD3-4CA2-BBE4-1F1969B473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D0C8E-B1B0-49EC-9494-74024205F7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3B00D-6552-4C09-A04B-9FC96425DD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F8B0A-46ED-4DDA-B78D-4064F77F39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CAB12-EA77-4851-A73E-5E7BF2225C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9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CCAAC-4BB2-4408-9197-EAAFA361727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4025C-13D0-4958-9099-E8E65FFB2E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A36B-DCA1-49AC-959B-6611879B7A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37A9-42DD-4C91-8413-4D93B74F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669C-782F-48C8-822B-9E323BC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6D64-F773-4106-A96F-1EAE74835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0380-B4EE-42E3-AE89-7BF21185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928D-9CEA-40B5-9480-C604BC91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1A19-09A2-4ABB-9ADB-CE4B4422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2A32-2995-4F62-B818-E3F08AD4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4E3E-B215-4561-9563-293C37AD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977E-DABB-46E0-8D6E-2C782203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F226-67FB-485C-97C1-D81EAF77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FD84-E487-4A9D-BB74-CBAC51C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2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6AFF04-876B-4AA0-BD55-12CC2C35591F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71640" y="1461960"/>
            <a:ext cx="40320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 una entomóloga y botánica nacida en Nueva York en 183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só la mayor parte de su vida en Vineland, New Jers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16, volvió a Nueva York para vivir con su hermana. Murió en 1923, a los 92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6920" y="836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Biografía br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771640" y="571176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York, ciudad natal de Mary Davis Tre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5111640" y="828720"/>
            <a:ext cx="34196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867280" y="1440000"/>
            <a:ext cx="3240360" cy="39589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71640" y="1461960"/>
            <a:ext cx="49687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endió la teoría de la evolución de Darwin, quien a su vez alabó los trabajos de Mary Davis Treat. A pesar de dichas alabanzas, no fue reconocida por la comunidad científica, debido tan solo al hecho de ser muj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primeras publicaciones fueron detalladas descripciones de ciclos vitales de insec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de 1969 publicó 76 artículos y 5 lib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investigaciones ayudaron a muchos entomólogos a clasificar los insectos. Ella misma descubrió varias especies de insectos, arácnidos y plan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hormig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phanogaster treatia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marili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Zephyranthus treatia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cibiero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ombre específico en su hon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71640" y="765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portaciones científ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940360" y="5400720"/>
            <a:ext cx="29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arles Darwin, uno de los científicos del siglo XIX que fue capaz de apreciar el trabajo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Mary Davis Tre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971640" y="1461960"/>
            <a:ext cx="460836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o de sus más famosos trabajos fu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e realizó con larvas de mariposa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peci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pilio aster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ubrió que las larvas que comía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bundancia se desarrollaban como hembras, mientras que las que comían poco, lo hacían como ma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stigó con otras especies de mariposa y obtuvo resultados simila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rwin afirmó que sus investigaciones con las mariposas eran las mejores realizadas hasta entonces. Esto la ayudó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obtener el mérito que merecía y que tantas veces se le negó por sexism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00000" y="83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rincipales descubr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3060720" cy="2700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5940360" y="4932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iposa del género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apilio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milar a las que investigó Mary Davi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ary Davis 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1916280"/>
            <a:ext cx="748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fueron los primeros trabajos científicos de Mary Davis Trea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Por qué conocido científico fueron reconocida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aportaciones de esta mujer a la 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1800"/>
              </a:spcAft>
              <a:buClr>
                <a:srgbClr val="0099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fueron sus trabajos más notab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71640" y="1052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Activ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26:17Z</dcterms:modified>
  <cp:revision>48</cp:revision>
  <dc:subject/>
  <dc:title>Diapositiva 1</dc:title>
</cp:coreProperties>
</file>